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824360" y="587700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oly%20Bible"/>
          <p:cNvPicPr/>
          <p:nvPr/>
        </p:nvPicPr>
        <p:blipFill>
          <a:blip r:embed="rId1"/>
          <a:stretch/>
        </p:blipFill>
        <p:spPr>
          <a:xfrm>
            <a:off x="4932360" y="306864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3200" y="457200"/>
            <a:ext cx="8650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romises to the Patriarch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47640" y="234900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7000" indent="-29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SenateCondensed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 large number of descendants;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297000" indent="-29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SenateCondensed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at God would bless those who blessed him, and curse those who cursed him;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297000" indent="-29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SenateCondensed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at all nations would be blessed through him;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297000" indent="-29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SenateCondensed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at he and his descendants would enjoy victory over enemies;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297000" indent="-297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SenateCondensed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at he and his descendants would be given land for ever.  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1676520"/>
            <a:ext cx="6669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SenateCondensed"/>
              </a:rPr>
              <a:t>Promises to Abraham, Isaac &amp; Jac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romises are relevant to u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4920" y="1628280"/>
            <a:ext cx="638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Luke 13:28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Acts 3:25-26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Hebrews 11:9-13, 39-40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Galatians 3:7-8, 16, 27-29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omans 4:13-17; 9:8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29840" indent="-429840">
              <a:lnSpc>
                <a:spcPct val="105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phesians 2:11-13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romises tell us . . .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43112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4800" indent="-3348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f God’s plan for the earth and its people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-3348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at Jesus is </a:t>
            </a:r>
            <a:r>
              <a:rPr b="0" i="1" lang="en-US" sz="4000" spc="-1" strike="noStrike">
                <a:solidFill>
                  <a:srgbClr val="000000"/>
                </a:solidFill>
                <a:latin typeface="SenateCondensed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seed of Abraham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-3348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at we can be heirs of the promise if we accept Jesus Christ as our Saviour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-3348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e land of Israel will belong to Abraham and his seed (i.e., those who accept Jesus Christ)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ummary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braham was a man of faith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He obeyed God and left his country and people to go to Canaan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made him some wonderful far reaching promises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is Gospel was being preached to Abraham in those promises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ose promises are important to us today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Salvation was to be achieved through his descendant, Jesus!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We can become heirs of these promises through Christ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promised the land of Israel to Abraham for ever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66480" indent="-3664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braham has to be resurrected in order to receive the ultimate promise.  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idolatry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ovenan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estamen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patriarch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ircumcis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gosp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aith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11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Moses and the law of Israel</a:t>
            </a:r>
            <a:endParaRPr b="0" lang="en-US" sz="66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66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2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35280" y="404640"/>
            <a:ext cx="691344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SenateCondensed"/>
              </a:rPr>
              <a:t>Abraham: the man who was promised the worl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ummary of las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1676160"/>
            <a:ext cx="73436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haracteristics of Go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reator of heaven &amp; earth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 God of love &amp; mercy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 God of judgement &amp; righteousness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His purpose is to fill the earth with the knowledge of his glory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fter God condemned Adam &amp; Eve to death he left a way open for salvation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re is no remission of sins without the shedding of bloo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Seed of the serpent = SIN  Seed of the woman = Jesus. 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508720" y="259920"/>
            <a:ext cx="3311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Ur of the Chaldees was a prosperous city at the time with good living standards, systematic irrigation, cuneiform writing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Ziggurat (height, pinnacle) at Ur was dedicated to the moon god. Priest-king was supreme ruler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82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08720" y="3500280"/>
            <a:ext cx="33112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468360" y="404640"/>
            <a:ext cx="10134720" cy="6096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2209320"/>
            <a:ext cx="2971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enateCondensed"/>
              </a:rPr>
              <a:t>Mediterranean</a:t>
            </a:r>
            <a:r>
              <a:rPr b="1" lang="en-US" sz="3600" spc="-1" strike="noStrike">
                <a:solidFill>
                  <a:srgbClr val="333399"/>
                </a:solidFill>
                <a:latin typeface="SenateCondensed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enateCondensed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84240" y="609588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enateCondensed"/>
              </a:rPr>
              <a:t>Red Sea</a:t>
            </a:r>
            <a:endParaRPr b="0" lang="en-US" sz="2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6" name=""/>
          <p:cNvSpPr/>
          <p:nvPr/>
        </p:nvSpPr>
        <p:spPr>
          <a:xfrm>
            <a:off x="4703760" y="1905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uph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168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g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0960" y="762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17960" y="4495680"/>
            <a:ext cx="2819520" cy="129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41640" y="4419720"/>
            <a:ext cx="2819520" cy="1295280"/>
          </a:xfrm>
          <a:prstGeom prst="rect">
            <a:avLst/>
          </a:prstGeom>
          <a:solidFill>
            <a:srgbClr val="988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65680" y="4419720"/>
            <a:ext cx="297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Abraham’s Journe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04160" y="4267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3141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60" y="4365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32846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65560" y="1020600"/>
            <a:ext cx="6192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573360"/>
            <a:ext cx="6192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2000" y="4292640"/>
            <a:ext cx="6192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9080" y="3357720"/>
            <a:ext cx="6156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9080" y="3645000"/>
            <a:ext cx="6156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429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4365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757080" y="333360"/>
            <a:ext cx="10134360" cy="6095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2971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enateCondensed"/>
              </a:rPr>
              <a:t>Mediterranean</a:t>
            </a:r>
            <a:r>
              <a:rPr b="1" lang="en-US" sz="3600" spc="-1" strike="noStrike">
                <a:solidFill>
                  <a:srgbClr val="333399"/>
                </a:solidFill>
                <a:latin typeface="SenateCondensed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enateCondensed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609588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enateCondensed"/>
              </a:rPr>
              <a:t>Red Sea</a:t>
            </a:r>
            <a:endParaRPr b="0" lang="en-US" sz="2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905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uph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g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762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495680"/>
            <a:ext cx="2819520" cy="129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419720"/>
            <a:ext cx="2819520" cy="1295280"/>
          </a:xfrm>
          <a:prstGeom prst="rect">
            <a:avLst/>
          </a:prstGeom>
          <a:solidFill>
            <a:srgbClr val="988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419720"/>
            <a:ext cx="297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Abraham’s Journe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3124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886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657600"/>
            <a:ext cx="19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hel,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990720"/>
            <a:ext cx="152280" cy="1522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4191120"/>
            <a:ext cx="152280" cy="1522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4680" y="1143000"/>
            <a:ext cx="3606840" cy="3124080"/>
          </a:xfrm>
          <a:custGeom>
            <a:avLst/>
            <a:gdLst/>
            <a:ahLst/>
            <a:rect l="l" t="t" r="r" b="b"/>
            <a:pathLst>
              <a:path w="2272" h="1968">
                <a:moveTo>
                  <a:pt x="2272" y="1968"/>
                </a:moveTo>
                <a:cubicBezTo>
                  <a:pt x="2064" y="1928"/>
                  <a:pt x="1856" y="1888"/>
                  <a:pt x="1744" y="1776"/>
                </a:cubicBezTo>
                <a:cubicBezTo>
                  <a:pt x="1632" y="1664"/>
                  <a:pt x="1696" y="1416"/>
                  <a:pt x="1600" y="1296"/>
                </a:cubicBezTo>
                <a:cubicBezTo>
                  <a:pt x="1504" y="1176"/>
                  <a:pt x="1416" y="1160"/>
                  <a:pt x="1168" y="1056"/>
                </a:cubicBezTo>
                <a:cubicBezTo>
                  <a:pt x="920" y="952"/>
                  <a:pt x="224" y="848"/>
                  <a:pt x="112" y="672"/>
                </a:cubicBezTo>
                <a:cubicBezTo>
                  <a:pt x="0" y="496"/>
                  <a:pt x="432" y="104"/>
                  <a:pt x="496" y="0"/>
                </a:cubicBezTo>
              </a:path>
            </a:pathLst>
          </a:custGeom>
          <a:noFill/>
          <a:ln cap="sq"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86000" y="3429000"/>
            <a:ext cx="76320" cy="2286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1676160" cy="711360"/>
          </a:xfrm>
          <a:custGeom>
            <a:avLst/>
            <a:gdLst/>
            <a:ahLst/>
            <a:rect l="l" t="t" r="r" b="b"/>
            <a:pathLst>
              <a:path w="1056" h="448">
                <a:moveTo>
                  <a:pt x="1056" y="0"/>
                </a:moveTo>
                <a:cubicBezTo>
                  <a:pt x="976" y="160"/>
                  <a:pt x="896" y="320"/>
                  <a:pt x="720" y="384"/>
                </a:cubicBezTo>
                <a:cubicBezTo>
                  <a:pt x="544" y="448"/>
                  <a:pt x="120" y="384"/>
                  <a:pt x="0" y="384"/>
                </a:cubicBezTo>
              </a:path>
            </a:pathLst>
          </a:custGeom>
          <a:noFill/>
          <a:ln cap="sq"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962520"/>
            <a:ext cx="1841400" cy="761760"/>
          </a:xfrm>
          <a:custGeom>
            <a:avLst/>
            <a:gdLst/>
            <a:ahLst/>
            <a:rect l="l" t="t" r="r" b="b"/>
            <a:pathLst>
              <a:path w="1256" h="544">
                <a:moveTo>
                  <a:pt x="0" y="528"/>
                </a:moveTo>
                <a:cubicBezTo>
                  <a:pt x="112" y="536"/>
                  <a:pt x="224" y="544"/>
                  <a:pt x="288" y="528"/>
                </a:cubicBezTo>
                <a:cubicBezTo>
                  <a:pt x="352" y="512"/>
                  <a:pt x="280" y="448"/>
                  <a:pt x="384" y="432"/>
                </a:cubicBezTo>
                <a:cubicBezTo>
                  <a:pt x="488" y="416"/>
                  <a:pt x="776" y="472"/>
                  <a:pt x="912" y="432"/>
                </a:cubicBezTo>
                <a:cubicBezTo>
                  <a:pt x="1048" y="392"/>
                  <a:pt x="1144" y="264"/>
                  <a:pt x="1200" y="192"/>
                </a:cubicBezTo>
                <a:cubicBezTo>
                  <a:pt x="1256" y="120"/>
                  <a:pt x="1240" y="32"/>
                  <a:pt x="1248" y="0"/>
                </a:cubicBezTo>
              </a:path>
            </a:pathLst>
          </a:custGeom>
          <a:noFill/>
          <a:ln cap="sq"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200400"/>
            <a:ext cx="152280" cy="1522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885960"/>
            <a:ext cx="2232000" cy="2255760"/>
          </a:xfrm>
          <a:custGeom>
            <a:avLst/>
            <a:gdLst/>
            <a:ahLst/>
            <a:rect l="l" t="t" r="r" b="b"/>
            <a:pathLst>
              <a:path w="1406" h="1330">
                <a:moveTo>
                  <a:pt x="1316" y="151"/>
                </a:moveTo>
                <a:cubicBezTo>
                  <a:pt x="1361" y="75"/>
                  <a:pt x="1406" y="0"/>
                  <a:pt x="1270" y="151"/>
                </a:cubicBezTo>
                <a:cubicBezTo>
                  <a:pt x="1134" y="302"/>
                  <a:pt x="688" y="892"/>
                  <a:pt x="499" y="1058"/>
                </a:cubicBezTo>
                <a:cubicBezTo>
                  <a:pt x="310" y="1224"/>
                  <a:pt x="219" y="1103"/>
                  <a:pt x="136" y="1148"/>
                </a:cubicBezTo>
                <a:cubicBezTo>
                  <a:pt x="53" y="1193"/>
                  <a:pt x="7" y="1292"/>
                  <a:pt x="0" y="1330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3645000"/>
            <a:ext cx="6192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716280"/>
            <a:ext cx="61920" cy="619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First Promise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18920" y="3212640"/>
            <a:ext cx="801684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5480" indent="-375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Make him a great n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5480" indent="-375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Make his name great in the earth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5480" indent="-375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less those who bless him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75480" indent="-375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Bless all nations through Abraham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1557360"/>
            <a:ext cx="590580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enateCondensed"/>
              </a:rPr>
              <a:t>Genesis 12: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If he obeyed, God woul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Further Promise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097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30120" indent="-33012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13:14-17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30120" indent="-33012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15:5-6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30120" indent="-33012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15:17-21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30120" indent="-33012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17:3-8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17:15-22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30120" indent="-33012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enesis 22:15-18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413000"/>
            <a:ext cx="439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375480" indent="-37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and and descen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Descen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Descendants and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Descendants, land and promise everlasting.   Sarah mother of nations, Ishmael blessed. Covenant with Isa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Blessing Abraham, descendants, rule over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5877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SenateCondensed"/>
              </a:rPr>
              <a:t>All nations shall be blessed through Ab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19T11:23:37Z</dcterms:modified>
  <cp:revision>73</cp:revision>
  <dc:subject/>
  <dc:title>GTKTBB</dc:title>
</cp:coreProperties>
</file>